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93CA-CAC1-4CAB-976A-36539109CFB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АНАЛИЗ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1446-F739-494D-B5FD-CA35B1EB8B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анализ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й подход: определяет степень соответствия действующих правовых норм требованиям экономической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й подход: предполагает внесение изменений в правовые нормы, основываясь на выводах экономическ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1B85-2A03-4DF6-83FB-2D90A44488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тилитаризм = максимизация общественного сча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благосостояния          чтобы выбрать наилучшую для общества альтернативу, нужно определить полезность его членов при различных альтернати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кардинал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межличностного сравнения полез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9D40-5796-4FFB-8EFA-1F65A4157C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эффективности по Парето: если закон или судебное решение приведет к улучшению положения хотя бы одного индивида, не ухудшая положения других, этот закон (судебное решение) – улучшение по Паре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EA3F-7A24-4B41-832D-D7DEB270DB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эффективности по Паре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тения индивидов рассматриваются как заранее заданные и неизм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эффективности по Парето не принимает во внимание справедливость распределения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уют какие-либо пределы рыночных отношений: моральные нормы не имеют зна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1C8E-6EFC-4F51-8E3E-2AC15D014A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Калдора – Хикса (потенциальное улучшение по Парето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тительнее состоя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если те, кто выигрывает при переходе о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гут полностью компенсировать убытки тех, кто проигрывает при этом переходе, и все равно остаться в выигры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4B94-83F9-4B9F-B3FD-C5C488A6ED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максимизации богатства (Р. Познер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D1CC-AA3E-4310-9D4D-5316CE2396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Критерий Ролз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лагосостояние общества оценивается по благосостоянию самого слабого его член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благосостояние, как произведение полез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е общественное устройство – такое, которое выбрали бы индивиды, если бы на них не оказывали влияния их эгоистические интере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7567-0929-4307-ADA5-DD6D7FA679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утилитаризма и критерий Рол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4C59-88F7-42AF-B988-31CF1E04E5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Что такое «справедливость»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сть – понятие о должном, соответствующее определённым представлениям о сущности человека и его неотъемлемых правах.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СЭ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посвящаю свою жизнь войне за справедливость в этом жестоком мире. Только справедливость означает свободу, равенство, братство.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etov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сти нет. Но если принять это как аксиому и перестать её добиваться, то будет гораздо хуже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Oro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4470-1292-4961-AE5A-B1D20B5B0F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то такое «справедливость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ветственность за неумышленное причинение ущерб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еобходимость компенсации ущерба жертве несчастного случ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говорное 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езыблемость обещаний и компенсация за нарушение обя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головное 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идея воздающего правосуд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80AA-4B80-4145-BD68-D79EAD6BA8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бовцев В.Л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 и экономическая тео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нфра-М.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цова М.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номика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здательский дом ГУ-ВШЭ.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vell, Steven. 2004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oundations of Economic Analysis of La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Cambridge (MA): Harvard University Pr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281D-8DB1-4534-B5D7-F27B0441D4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то такое «справедливость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цессуальная справедлив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следование ранее установленным правилам, информация о которых предоставлена индивидам, а также возможность участия индивидов в выработке и установлении этих прав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DFE3-EA0A-4917-B0CF-405BD5395A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спределительная справедл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163C-2F0B-4B3D-A620-BB1D13A45F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Распределительная справедлив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доход не может быть перераспределен без издержек, то между справедливостью и эффективностью может возникнуть конфли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этого конфликта зависит от распределительных последствий эффективного решения и от того, какое распределение доходов считается справедливым в этом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тительнее такое распределение дохода, которое приведет к максимизации общественного богатств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3BD5-F8AF-4C00-BEA4-D2E4C0C2FC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ая полезность денег для бедных больше, чем для богатых, поэтому перераспределение может увеличить общественное благососто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доходов влияет на распределение полезности, поэтому общественное благосостояние может зависеть непосредственно от того, насколько равномерно распределены доходы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B049-EF7C-4132-AC6D-30FCEC1EAC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доходов может влиять на общественное благосостояние, так как индивидуальная полезность может зависеть от распределения доходов во всем обществе, отражая чувство альтруизма и симпатии данного инди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F225-1958-46BC-B04F-1068A726B2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ерераспределения богат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трансф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ение с помощью правов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A231-F5BD-44A2-AB86-1B1B8FABA8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логовая система призвана выравнивать доходы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жду членами общества, но оптимальное, с точки зрения максимизации общественного благосостояния распределение доходов невозмож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индивидов подрываются стимулы к производите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издержки функционирования налогов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246A-0101-4FFA-919D-6DC6F0886B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, как система перераспределения, более эффективно, чем налоговая система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4125-320B-475C-BBFD-B22926311E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бовцев В.Л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 и экономическая тео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нфра-М. 2005. Гл. 1,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цова М.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номика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здательский дом ГУ-ВШЭ. 2007. Гл.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vell, Steven. 2004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oundations of Economic Analysis of La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 Cambridge (MA): Harvard University Press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. 28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. ‘Income Distributional Equity and the Law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FB26-E8D7-4459-968E-86FE6D576F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анализ прав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and Economics)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законодательных и судебных решений экономическими мет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9616-294F-4140-B0BB-8D0CCEC4DA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se, Ronald H. 196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‘The Problem of Social Cost’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Journal of Law and Economic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(1):1-4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abresi, Guido. 1961. ‘Some Thoughts on Risk Distribution and the Law of Torts’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Yale Law Journ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0(4):499-55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ker, Gary S. 1968. ‘Crime and Punishment: An Economic Approach’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Journal of Political Econom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6(2):169-2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F94D-A328-497D-87D3-6298B1D2F2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ые предпо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экономическим подходом к праву, индивиды – рациональные экономические агенты, максимизирующие свою полез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подход к праву имеет дело с предельными величи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подход к праву уделяет основное внимание созданию стимуло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 ant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6B28-E408-4B6F-A9FD-E4A3C38959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Основные предпосыл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нормы = система неявных цен, которая создает для индивидов соответствующие стиму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2A6D-153C-44F5-BB79-435AB6A1AD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A9BE-FFB6-4400-B38B-9FE7B979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B4DC-CA91-498D-8121-5AA950EC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7502-197A-4BC8-AA45-5A403724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0E45-7691-4DE1-A237-6BB8906C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D658-42BE-4901-B4BB-9C53541E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B612-12C2-4F75-BD0B-81F69F24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C5CF-BD44-4652-A250-44F670CA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C9BF-D0C2-4A1E-80DE-C0DE6EF6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155C-DAE4-48EC-ADF1-2801C270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8DE5-0ECF-484B-A1DC-B81F58BC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2989-823A-4F38-A204-1E65D4B7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ED11-CBB8-48C1-B583-1916F32F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DF26-1AC0-4058-928B-F8DFE417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AF95-C80B-46A7-8FC5-187E3800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8105-55AD-4653-AD35-4874CF6F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4150-4B16-450A-A3BA-693C5978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508F-E13E-41E3-8FF4-E48A9FB9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647CE6-5756-45C8-9584-F790DD4D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478ACA-B6FC-4944-9D0C-E6618FB5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7A808B-9367-4C77-B204-CE76EE97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7EFA5F-F87E-44FA-B54F-E6E96557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0EF474-F384-458A-BE45-1117E849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EED2-96AC-4468-9F9D-DB5BEF22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BA2CB5-B861-490A-AF01-8D3D24A9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694A6F-745D-4C4C-9701-57E451DF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E114EF-65FF-4A9B-9E92-B26226D0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3E0DA3-EBA1-4AAF-A004-8F1490A7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197AFB-C09D-4601-9170-F0C18241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EDB84D-67DF-4E48-89AA-A984A6D7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4AEEF6-7958-4793-9600-DE42D6DF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75B30-8BE9-4B90-94F8-87C347F0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6E59D-38D6-4861-BB94-C69434B2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34C38-0465-44B5-B1F5-6A8B2B9F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2635-7533-4F80-9BFF-7157CAB2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7CB81-E908-4F31-A5A3-553FAEC2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8FDEC-F90F-4DB9-8266-ABDBADC0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BF1DB-EC68-475B-8541-E08DBAFF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60C77-3E79-4134-B095-AAAD1B95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1FD39-8C5B-4347-BEFF-54F46211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46917-72F3-4D1B-A5B2-25124A0F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17AEF-879B-41EA-B1FC-48227FDF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E531F-B446-49B1-B18B-5340BFDD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03539-7D30-4663-9D93-972C0D5D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FCC6-0A0C-4E3F-8DEE-AD8258C3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2061-525A-4989-9F81-8ACF6170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47AB-4E97-41D0-A7FE-3E1233D5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9492-9C55-43DE-8455-A4107CA7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46E-CEF9-454F-98D2-71D60A98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11EA-A3D4-4508-B33F-9F55082B1ED6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FCF6-599C-41D4-AE42-608170C8B52B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206A-DBFF-44B3-B765-74BBA2972A67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A1D2-B093-4147-828B-55C8252C15D6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C9D8-8F2E-4C95-AD6B-4473FE6985AC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E26F-9575-43AE-B569-3BFAAC9155D3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ED0A-1A1A-4FF3-B2B2-5A4EEEA86BF4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DD0C-1CF1-4998-9552-BD7ABD6DA53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ЭКОНОМИЧЕСКИЙ АНАЛИЗ ПРАВА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3"/>
          <p:cNvSpPr/>
          <p:nvPr/>
        </p:nvSpPr>
        <p:spPr>
          <a:xfrm>
            <a:off x="1143000" y="1643040"/>
            <a:ext cx="6500880" cy="64296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Экономический анализ пра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4"/>
          <p:cNvSpPr/>
          <p:nvPr/>
        </p:nvSpPr>
        <p:spPr>
          <a:xfrm>
            <a:off x="285840" y="3097080"/>
            <a:ext cx="4143240" cy="3618000"/>
          </a:xfrm>
          <a:prstGeom prst="rect">
            <a:avLst/>
          </a:prstGeom>
          <a:solidFill>
            <a:srgbClr val="a04da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Позитивный подход: определяет степень соответствия действующих правовых норм требованиям экономической эффектив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5"/>
          <p:cNvSpPr/>
          <p:nvPr/>
        </p:nvSpPr>
        <p:spPr>
          <a:xfrm>
            <a:off x="4714920" y="3092400"/>
            <a:ext cx="4143240" cy="3622680"/>
          </a:xfrm>
          <a:prstGeom prst="rect">
            <a:avLst/>
          </a:prstGeom>
          <a:solidFill>
            <a:srgbClr val="a04da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ормативный подход: предполагает внесение изменений в правовые нормы, основываясь на выводах экономической теор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трелка вниз 6"/>
          <p:cNvSpPr/>
          <p:nvPr/>
        </p:nvSpPr>
        <p:spPr>
          <a:xfrm>
            <a:off x="2143080" y="2286000"/>
            <a:ext cx="500040" cy="78588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трелка вниз 8"/>
          <p:cNvSpPr/>
          <p:nvPr/>
        </p:nvSpPr>
        <p:spPr>
          <a:xfrm>
            <a:off x="6500880" y="2286000"/>
            <a:ext cx="500040" cy="78588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тилитаризм = максимизация общественного счасть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нцип благосостояния          чтобы выбрать наилучшую для общества альтернативу, нужно определить полезность его членов при различных альтернатива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нцип кардинализм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зможность межличностного сравнения полезност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60" name="Прямая со стрелкой 4"/>
          <p:cNvCxnSpPr/>
          <p:nvPr/>
        </p:nvCxnSpPr>
        <p:spPr>
          <a:xfrm>
            <a:off x="4785840" y="3857760"/>
            <a:ext cx="786600" cy="216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14200" y="1571760"/>
            <a:ext cx="8715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Овал 5"/>
          <p:cNvSpPr/>
          <p:nvPr/>
        </p:nvSpPr>
        <p:spPr>
          <a:xfrm>
            <a:off x="214200" y="2571840"/>
            <a:ext cx="8643960" cy="4000320"/>
          </a:xfrm>
          <a:prstGeom prst="ellipse">
            <a:avLst/>
          </a:prstGeom>
          <a:solidFill>
            <a:srgbClr val="a04da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ритерий эффективности по Парето: если закон или судебное решение приведет к улучшению положения хотя бы одного индивида, не ухудшая положения других, этот закон (судебное решение) – улучшение по Паре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ритерий эффективности по Парет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почтения индивидов рассматриваются как заранее заданные и неизменны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нцип эффективности по Парето не принимает во внимание справедливость распределения доход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сутствуют какие-либо пределы рыночных отношений: моральные нормы не имеют значе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Калдора – Хикса (потенциальное улучшение по Парето)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остояние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А 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предпочтительнее состояния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, если те, кто выигрывает при переходе от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к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могут полностью компенсировать убытки тех, кто проигрывает при этом переходе, и все равно остаться в выигрыше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максимизации богатства (Р. Познер)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Скругленный прямоугольник 3"/>
          <p:cNvSpPr/>
          <p:nvPr/>
        </p:nvSpPr>
        <p:spPr>
          <a:xfrm>
            <a:off x="285840" y="3786120"/>
            <a:ext cx="8643960" cy="2714760"/>
          </a:xfrm>
          <a:prstGeom prst="roundRect">
            <a:avLst>
              <a:gd name="adj" fmla="val 16667"/>
            </a:avLst>
          </a:prstGeom>
          <a:solidFill>
            <a:srgbClr val="438086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Если блага находятся в руках людей, готовых предложить за них максимальную цену, то общество достигнет цели максимизации совокупного богат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Ролза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Благосостояние общества оценивается по благосостоянию самого слабого его члена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вокупное благосостояние, как произведение полезност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раведливое общественное устройство – такое, которое выбрали бы индивиды, если бы на них не оказывали влияния их эгоистические интерес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утилитаризма и критерий Ролза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14200" y="3071880"/>
          <a:ext cx="8715600" cy="362736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5200"/>
              </a:tblGrid>
              <a:tr h="5184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остояние об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а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ж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Эсмераль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тилитариз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ол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4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82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Что такое «справедливость»?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раведливость – понятие о должном, соответствующее определённым представлениям о сущности человека и его неотъемлемых правах. (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БСЭ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Я посвящаю свою жизнь войне за справедливость в этом жестоком мире. Только справедливость означает свободу, равенство, братство. 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Zetov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раведливости нет. Но если принять это как аксиому и перестать её добиваться, то будет гораздо хуже.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Oro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Что такое «справедливость»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Ответственность за неумышленное причинение ущерб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необходимость компенсации ущерба жертве несчастного случа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Договорное прав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незыблемость обещаний и компенсация за нарушение обязательств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Уголовное прав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идея воздающего правосуди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Литера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Тамбовцев В.Л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раво и экономическая теория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нфра-М. 2005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динцова М.И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Экономика прав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здательский дом ГУ-ВШЭ. 2007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havell, Steven. 2004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Foundations of Economic Analysis of Law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. Cambridge (MA): Harvard University Press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Что такое «справедливость»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роцессуальная справедливость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следование ранее установленным правилам, информация о которых предоставлена индивидам, а также возможность участия индивидов в выработке и установлении этих прави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Распределительная справедлив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Скругленный прямоугольник 3"/>
          <p:cNvSpPr/>
          <p:nvPr/>
        </p:nvSpPr>
        <p:spPr>
          <a:xfrm>
            <a:off x="214200" y="2500200"/>
            <a:ext cx="8643960" cy="571680"/>
          </a:xfrm>
          <a:prstGeom prst="roundRect">
            <a:avLst>
              <a:gd name="adj" fmla="val 16667"/>
            </a:avLst>
          </a:prstGeom>
          <a:solidFill>
            <a:srgbClr val="438086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У Пети есть 65 у.е., у Васи – 35 у.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4"/>
          <p:cNvSpPr/>
          <p:nvPr/>
        </p:nvSpPr>
        <p:spPr>
          <a:xfrm>
            <a:off x="214200" y="3214800"/>
            <a:ext cx="8643960" cy="571320"/>
          </a:xfrm>
          <a:prstGeom prst="roundRect">
            <a:avLst>
              <a:gd name="adj" fmla="val 16667"/>
            </a:avLst>
          </a:prstGeom>
          <a:solidFill>
            <a:srgbClr val="83bcc1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троительство дамбы стоит 30 у.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кругленный прямоугольник 5"/>
          <p:cNvSpPr/>
          <p:nvPr/>
        </p:nvSpPr>
        <p:spPr>
          <a:xfrm>
            <a:off x="214200" y="3929040"/>
            <a:ext cx="8643960" cy="571680"/>
          </a:xfrm>
          <a:prstGeom prst="roundRect">
            <a:avLst>
              <a:gd name="adj" fmla="val 16667"/>
            </a:avLst>
          </a:prstGeom>
          <a:solidFill>
            <a:srgbClr val="add2d6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троительство дамбы принесет 40 у.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кругленный прямоугольник 6"/>
          <p:cNvSpPr/>
          <p:nvPr/>
        </p:nvSpPr>
        <p:spPr>
          <a:xfrm>
            <a:off x="214200" y="4643280"/>
            <a:ext cx="8643960" cy="571680"/>
          </a:xfrm>
          <a:prstGeom prst="roundRect">
            <a:avLst>
              <a:gd name="adj" fmla="val 16667"/>
            </a:avLst>
          </a:prstGeom>
          <a:solidFill>
            <a:srgbClr val="d6e9ea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Все издержки строительства несет Ва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7"/>
          <p:cNvSpPr/>
          <p:nvPr/>
        </p:nvSpPr>
        <p:spPr>
          <a:xfrm>
            <a:off x="214200" y="5572080"/>
            <a:ext cx="8643960" cy="928800"/>
          </a:xfrm>
          <a:prstGeom prst="roundRect">
            <a:avLst>
              <a:gd name="adj" fmla="val 16667"/>
            </a:avLst>
          </a:prstGeom>
          <a:solidFill>
            <a:srgbClr val="3e3f68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Нужно ли строить дамб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8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Распределительная справедлив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сли доход не может быть перераспределен без издержек, то между справедливостью и эффективностью может возникнуть конфлик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зникновение этого конфликта зависит от распределительных последствий эффективного решения и от того, какое распределение доходов считается справедливым в этом обществ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почтительнее такое распределение дохода, которое приведет к максимизации общественного богатств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ельная полезность денег для бедных больше, чем для богатых, поэтому перераспределение может увеличить общественное благосостоя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спределение доходов влияет на распределение полезности, поэтому общественное благосостояние может зависеть непосредственно от того, насколько равномерно распределены доходы в обществ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Распределение доходов может влиять на общественное благосостояние, так как индивидуальная полезность может зависеть от распределения доходов во всем обществе, отражая чувство альтруизма и симпатии данного индивида.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3"/>
          <p:cNvSpPr/>
          <p:nvPr/>
        </p:nvSpPr>
        <p:spPr>
          <a:xfrm>
            <a:off x="1143000" y="1643040"/>
            <a:ext cx="6500880" cy="928800"/>
          </a:xfrm>
          <a:prstGeom prst="rect">
            <a:avLst/>
          </a:prstGeom>
          <a:solidFill>
            <a:srgbClr val="62331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Способы перераспределения богат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4"/>
          <p:cNvSpPr/>
          <p:nvPr/>
        </p:nvSpPr>
        <p:spPr>
          <a:xfrm>
            <a:off x="285840" y="3811680"/>
            <a:ext cx="4143240" cy="2117520"/>
          </a:xfrm>
          <a:prstGeom prst="rect">
            <a:avLst/>
          </a:prstGeom>
          <a:solidFill>
            <a:srgbClr val="c4652d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алоги и трансфер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5"/>
          <p:cNvSpPr/>
          <p:nvPr/>
        </p:nvSpPr>
        <p:spPr>
          <a:xfrm>
            <a:off x="4714920" y="3786120"/>
            <a:ext cx="4143240" cy="2143080"/>
          </a:xfrm>
          <a:prstGeom prst="rect">
            <a:avLst/>
          </a:prstGeom>
          <a:solidFill>
            <a:srgbClr val="c4652d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Перераспределение с помощью правового регул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трелка вниз 6"/>
          <p:cNvSpPr/>
          <p:nvPr/>
        </p:nvSpPr>
        <p:spPr>
          <a:xfrm>
            <a:off x="2143080" y="2571840"/>
            <a:ext cx="500040" cy="12142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62331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трелка вниз 8"/>
          <p:cNvSpPr/>
          <p:nvPr/>
        </p:nvSpPr>
        <p:spPr>
          <a:xfrm>
            <a:off x="6500880" y="2571840"/>
            <a:ext cx="500040" cy="12142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62331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алоговая система призвана выравнивать доходы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ежду членами общества, но оптимальное, с точки зрения максимизации общественного благосостояния распределение доходов невозможно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У индивидов подрываются стимулы к производительной деятельности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Административные издержки функционирования налоговой системы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0" y="1628640"/>
            <a:ext cx="914400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овое регулирование, как система перераспределения, более эффективно, чем налоговая система??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??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8" descr="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7"/>
          <p:cNvSpPr/>
          <p:nvPr/>
        </p:nvSpPr>
        <p:spPr>
          <a:xfrm>
            <a:off x="1357200" y="857160"/>
            <a:ext cx="6572520" cy="114300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http://www.nber.org/paper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9"/>
          <p:cNvSpPr/>
          <p:nvPr/>
        </p:nvSpPr>
        <p:spPr>
          <a:xfrm>
            <a:off x="1357200" y="3214800"/>
            <a:ext cx="2500560" cy="78588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Shav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4" descr="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232" name="Овал 5"/>
          <p:cNvSpPr/>
          <p:nvPr/>
        </p:nvSpPr>
        <p:spPr>
          <a:xfrm>
            <a:off x="1357200" y="4286160"/>
            <a:ext cx="571680" cy="128592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6"/>
          <p:cNvSpPr/>
          <p:nvPr/>
        </p:nvSpPr>
        <p:spPr>
          <a:xfrm>
            <a:off x="2143080" y="3786120"/>
            <a:ext cx="5429160" cy="57168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w9694-w9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Литература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Тамбовцев В.Л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раво и экономическая теория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нфра-М. 2005. Гл. 1,2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динцова М.И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Экономика прав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здательский дом ГУ-ВШЭ. 2007. Гл. 1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havell, Steven. 2004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Foundations of Economic Analysis of Law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.  Cambridge (MA): Harvard University Press.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h. 28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. ‘Income Distributional Equity and the Law’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Экономический анализ права (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Law and Economics) –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анализ законодательных и судебных решений экономическими методам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ase, Ronald H. 1960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‘The Problem of Social Cost’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Journal of Law and Economics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3(1):1-44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alabresi, Guido. 1961. ‘Some Thoughts on Risk Distribution and the Law of Torts’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Yale Law Journal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70(4):499-553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cker, Gary S. 1968. ‘Crime and Punishment: An Economic Approach’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Journal of Political Economy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76(2):169-217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сновные предпосыл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 соответствии с экономическим подходом к праву, индивиды – рациональные экономические агенты, максимизирующие свою полезность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Экономический подход к праву имеет дело с предельными величинами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Экономический подход к праву уделяет основное внимание созданию стимулов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x ante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сновные предпосыл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Овал 3"/>
          <p:cNvSpPr/>
          <p:nvPr/>
        </p:nvSpPr>
        <p:spPr>
          <a:xfrm>
            <a:off x="714240" y="2857680"/>
            <a:ext cx="7715520" cy="3071520"/>
          </a:xfrm>
          <a:prstGeom prst="ellips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Правовые нормы = система неявных цен, которая создает для индивидов соответствующие стиму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7:02:24Z</dcterms:created>
  <dc:creator>www.PHILka.RU</dc:creator>
  <dc:description/>
  <dc:language>en-US</dc:language>
  <cp:lastModifiedBy>LEGION</cp:lastModifiedBy>
  <dcterms:modified xsi:type="dcterms:W3CDTF">2015-01-28T08:21:50Z</dcterms:modified>
  <cp:revision>63</cp:revision>
  <dc:subject/>
  <dc:title>ЭКОНОМИЧЕСКИЙ АНАЛИЗ ПРАВА</dc:title>
</cp:coreProperties>
</file>